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5B0-890F-4B27-86FD-79D23021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34B-A9E1-4F6F-8AD4-C276CE58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EFB-81A8-4A43-96AD-7A201C02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ADB-02A4-44FE-A406-6CBA3CED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CA2C-9D72-4B01-8AE0-284BD4CE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7064-2D4F-4954-B958-BE6DC14A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11BC-1A36-4A15-86A1-2D2804E2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0B7F-7CD9-41FA-A1CE-BB120F37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2770-1FA6-4AB6-B007-2ADBE46E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15BD-A8E3-4F8F-9530-52A2DAAD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F0E0-E9E9-4D8E-AC06-FCF7D822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1510-5D3F-4A8B-89D2-CAA76452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2687-553E-4A32-988B-A88A2A0C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062F-CD75-448A-9BA9-F7C72FB8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4BAD-2FE0-4CB1-80D5-305252A4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E926-A04F-4044-A0AC-09B8F736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5CC6-526E-486B-90F1-3872961D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CB3-9D50-4C17-9CDB-D5ABABAE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022-488E-498E-8249-3790FAE2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AD3-66C3-4C1E-99F3-29EB6F6C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C5B-483F-4F77-BC43-A0735A29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2F3-4E14-4A3F-9669-45BB9B9D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AD8-060E-4934-820F-18BE825C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FA5-04E1-40FA-9004-F92CFDCA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E3B7-F6D7-4381-8ADF-DF4AD74319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A05E-9769-4851-9EA7-0B23F5C2FF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2b2b2"/>
                </a:solidFill>
                <a:latin typeface="Bodoni MT Black"/>
              </a:rPr>
              <a:t>The Heimlich Maneuver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Jordan La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roductio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’s never a warning before a person gets an object caught in their throat and starts choking. Fortunately, there are effective techniques to deal with this emergency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10400" y="4476600"/>
            <a:ext cx="3333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oking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king is the body’s way of trying to remove a foreign object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Causes of Choking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ing (especially eating and laughing at the same time, eating too fast, and failing to chew food well enough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 and drug consumption (even a small amount affects awarenes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 to the head and face (bleeding can cause chok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objects swallowed by children (beads, toys)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Lack of Oxygen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oxygen the brain can begin to die within 4 to 6 minutes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learning the Heimlich Maneuver-a simple life-saving technique-you may literally save the life of a choking vict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imlich Maneuver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imlich Maneuver is the most effective way to remove something stuck in an adult’s or older child’s throat. (Note: another technique is used for an infant, small child, or when someone becomes unconscious.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lifts the diaphragm and forces enough air from the lungs to remove the ob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5638680"/>
            <a:ext cx="5562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en Do I Use The Heimlich?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is grabbing the throat with the hand (the universal sign for choking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otice they are gagg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ear a weak ineffective cough, noisy breathing, or high-pitched sound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is starting to look blu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915240" y="4267080"/>
            <a:ext cx="2305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How To Do The Heimlich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 behind the choking person and wrap your arm around his or her wai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 thumb side of the fist against middle of person’s abdomen just above the navel and well below the ri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s your fist into the person’s abdomen with quick, upward thrus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abdominal thrusts until the object is coughed u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33720" y="5181480"/>
            <a:ext cx="4438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lways remember… 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the expulsion of the object keep the victim still and get medical he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cations can arise from the incident or from the measures that were tak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9:19Z</dcterms:created>
  <dc:creator>766935</dc:creator>
  <dc:description/>
  <dc:language>en-US</dc:language>
  <cp:lastModifiedBy>766935</cp:lastModifiedBy>
  <dcterms:modified xsi:type="dcterms:W3CDTF">2008-10-31T15:35:39Z</dcterms:modified>
  <cp:revision>3</cp:revision>
  <dc:subject/>
  <dc:title>The Heimlich Maneuver </dc:title>
</cp:coreProperties>
</file>